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5.wmf" ContentType="image/x-wmf"/>
  <Override PartName="/ppt/media/driveby.wav" ContentType="audio/x-wav"/>
  <Override PartName="/ppt/media/image13.wmf" ContentType="image/x-wmf"/>
  <Override PartName="/ppt/media/EXPLODE.WAV" ContentType="audio/x-wav"/>
  <Override PartName="/ppt/media/image12.wmf" ContentType="image/x-wmf"/>
  <Override PartName="/ppt/media/image11.wmf" ContentType="image/x-wmf"/>
  <Override PartName="/ppt/media/image14.wmf" ContentType="image/x-wmf"/>
  <Override PartName="/ppt/media/LASER.WAV" ContentType="audio/x-wav"/>
  <Override PartName="/ppt/media/image1.wmf" ContentType="image/x-wmf"/>
  <Override PartName="/ppt/media/image31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34.wmf" ContentType="image/x-wmf"/>
  <Override PartName="/ppt/media/glass.wav" ContentType="audio/x-wav"/>
  <Override PartName="/ppt/media/image6.wmf" ContentType="image/x-wmf"/>
  <Override PartName="/ppt/media/image36.wmf" ContentType="image/x-wmf"/>
  <Override PartName="/ppt/media/image26.wmf" ContentType="image/x-wmf"/>
  <Override PartName="/ppt/media/image27.wmf" ContentType="image/x-wmf"/>
  <Override PartName="/ppt/media/image25.wmf" ContentType="image/x-wmf"/>
  <Override PartName="/ppt/media/projctor.wav" ContentType="audio/x-wav"/>
  <Override PartName="/ppt/media/CAMERA.WAV" ContentType="audio/x-wav"/>
  <Override PartName="/ppt/media/image24.wmf" ContentType="image/x-wmf"/>
  <Override PartName="/ppt/media/image40.wmf" ContentType="image/x-wmf"/>
  <Override PartName="/ppt/media/image44.gif" ContentType="image/gif"/>
  <Override PartName="/ppt/media/image41.wmf" ContentType="image/x-wmf"/>
  <Override PartName="/ppt/media/image45.gif" ContentType="image/gif"/>
  <Override PartName="/ppt/media/image38.wmf" ContentType="image/x-wmf"/>
  <Override PartName="/ppt/media/image8.wmf" ContentType="image/x-wmf"/>
  <Override PartName="/ppt/media/image30.wmf" ContentType="image/x-wmf"/>
  <Override PartName="/ppt/media/cashreg.wav" ContentType="audio/x-wav"/>
  <Override PartName="/ppt/media/image42.wmf" ContentType="image/x-wmf"/>
  <Override PartName="/ppt/media/image43.wmf" ContentType="image/x-wmf"/>
  <Override PartName="/ppt/media/image29.wmf" ContentType="image/x-wmf"/>
  <Override PartName="/ppt/media/WHOOSH.WAV" ContentType="audio/x-wav"/>
  <Override PartName="/ppt/media/image16.wmf" ContentType="image/x-wmf"/>
  <Override PartName="/ppt/media/image39.wmf" ContentType="image/x-wmf"/>
  <Override PartName="/ppt/media/image9.wmf" ContentType="image/x-wmf"/>
  <Override PartName="/ppt/media/image7.wmf" ContentType="image/x-wmf"/>
  <Override PartName="/ppt/media/image37.wmf" ContentType="image/x-wmf"/>
  <Override PartName="/ppt/media/image28.wmf" ContentType="image/x-wmf"/>
  <Override PartName="/ppt/media/CHIMES.WAV" ContentType="audio/x-wav"/>
  <Override PartName="/ppt/media/image18.wmf" ContentType="image/x-wmf"/>
  <Override PartName="/ppt/media/image20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A52-3115-49C9-AE8D-E4439893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68E-BEAE-49D5-ADEA-B41D5655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0D8-4A44-48FB-A0ED-9FF99A4D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309F-294B-429F-8657-325DCE4F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651-3DBB-4A29-B09E-93914FF1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892-349A-424E-AD99-C4AA46C1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DDF-F641-4DD7-A6CE-A2084367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7AC-7DA6-44DE-8099-9587B313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2BE9-B1E8-4B82-9CF4-1836B845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7AF1-FA54-49D1-8274-E07B15C1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13B5-9736-465F-934E-4E25BD0E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06F9-991E-42F7-8776-4138D6E0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E144-463D-42F8-B3B5-61C1283A8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.wmf"/><Relationship Id="rId27" Type="http://schemas.openxmlformats.org/officeDocument/2006/relationships/audio" Target="../media/WHOOSH.WAV"/><Relationship Id="rId28" Type="http://schemas.openxmlformats.org/officeDocument/2006/relationships/audio" Target="../media/CHIMES.WAV"/><Relationship Id="rId29" Type="http://schemas.openxmlformats.org/officeDocument/2006/relationships/audio" Target="../media/EXPLODE.WAV"/><Relationship Id="rId30" Type="http://schemas.openxmlformats.org/officeDocument/2006/relationships/audio" Target="../media/glass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LASER.WAV"/><Relationship Id="rId35" Type="http://schemas.openxmlformats.org/officeDocument/2006/relationships/audio" Target="../media/LASER.WAV"/><Relationship Id="rId36" Type="http://schemas.openxmlformats.org/officeDocument/2006/relationships/audio" Target="../media/EXPLODE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LASER.WAV"/><Relationship Id="rId40" Type="http://schemas.openxmlformats.org/officeDocument/2006/relationships/audio" Target="../media/LASER.WAV"/><Relationship Id="rId41" Type="http://schemas.openxmlformats.org/officeDocument/2006/relationships/audio" Target="../media/driveby.wav"/><Relationship Id="rId42" Type="http://schemas.openxmlformats.org/officeDocument/2006/relationships/audio" Target="../media/EXPLODE.WAV"/><Relationship Id="rId43" Type="http://schemas.openxmlformats.org/officeDocument/2006/relationships/audio" Target="../media/EXPLODE.WAV"/><Relationship Id="rId44" Type="http://schemas.openxmlformats.org/officeDocument/2006/relationships/audio" Target="../media/EXPLODE.WAV"/><Relationship Id="rId4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.wmf"/><Relationship Id="rId31" Type="http://schemas.openxmlformats.org/officeDocument/2006/relationships/audio" Target="../media/EXPLODE.WAV"/><Relationship Id="rId32" Type="http://schemas.openxmlformats.org/officeDocument/2006/relationships/audio" Target="../media/glass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EXPLODE.WAV"/><Relationship Id="rId36" Type="http://schemas.openxmlformats.org/officeDocument/2006/relationships/audio" Target="../media/LASER.WAV"/><Relationship Id="rId37" Type="http://schemas.openxmlformats.org/officeDocument/2006/relationships/audio" Target="../media/LASER.WAV"/><Relationship Id="rId38" Type="http://schemas.openxmlformats.org/officeDocument/2006/relationships/audio" Target="../media/LASER.WAV"/><Relationship Id="rId39" Type="http://schemas.openxmlformats.org/officeDocument/2006/relationships/audio" Target="../media/LASER.WAV"/><Relationship Id="rId40" Type="http://schemas.openxmlformats.org/officeDocument/2006/relationships/audio" Target="../media/EXPLODE.WAV"/><Relationship Id="rId41" Type="http://schemas.openxmlformats.org/officeDocument/2006/relationships/audio" Target="../media/EXPLODE.WAV"/><Relationship Id="rId42" Type="http://schemas.openxmlformats.org/officeDocument/2006/relationships/audio" Target="../media/EXPLODE.WAV"/><Relationship Id="rId43" Type="http://schemas.openxmlformats.org/officeDocument/2006/relationships/audio" Target="../media/LASER.WAV"/><Relationship Id="rId44" Type="http://schemas.openxmlformats.org/officeDocument/2006/relationships/audio" Target="../media/LASER.WAV"/><Relationship Id="rId45" Type="http://schemas.openxmlformats.org/officeDocument/2006/relationships/audio" Target="../media/driveby.wav"/><Relationship Id="rId46" Type="http://schemas.openxmlformats.org/officeDocument/2006/relationships/audio" Target="../media/EXPLODE.WAV"/><Relationship Id="rId47" Type="http://schemas.openxmlformats.org/officeDocument/2006/relationships/audio" Target="../media/EXPLODE.WAV"/><Relationship Id="rId48" Type="http://schemas.openxmlformats.org/officeDocument/2006/relationships/audio" Target="../media/EXPLODE.WAV"/><Relationship Id="rId4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.wmf"/><Relationship Id="rId23" Type="http://schemas.openxmlformats.org/officeDocument/2006/relationships/audio" Target="../media/EXPLODE.WAV"/><Relationship Id="rId24" Type="http://schemas.openxmlformats.org/officeDocument/2006/relationships/audio" Target="../media/glass.wav"/><Relationship Id="rId25" Type="http://schemas.openxmlformats.org/officeDocument/2006/relationships/audio" Target="../media/EXPLODE.WAV"/><Relationship Id="rId26" Type="http://schemas.openxmlformats.org/officeDocument/2006/relationships/audio" Target="../media/EXPLODE.WAV"/><Relationship Id="rId27" Type="http://schemas.openxmlformats.org/officeDocument/2006/relationships/audio" Target="../media/EXPLODE.WAV"/><Relationship Id="rId28" Type="http://schemas.openxmlformats.org/officeDocument/2006/relationships/audio" Target="../media/EXPLODE.WAV"/><Relationship Id="rId29" Type="http://schemas.openxmlformats.org/officeDocument/2006/relationships/audio" Target="../media/EXPLODE.WAV"/><Relationship Id="rId30" Type="http://schemas.openxmlformats.org/officeDocument/2006/relationships/audio" Target="../media/EXPLODE.WAV"/><Relationship Id="rId31" Type="http://schemas.openxmlformats.org/officeDocument/2006/relationships/audio" Target="../media/LASER.WAV"/><Relationship Id="rId32" Type="http://schemas.openxmlformats.org/officeDocument/2006/relationships/audio" Target="../media/LASER.WAV"/><Relationship Id="rId33" Type="http://schemas.openxmlformats.org/officeDocument/2006/relationships/audio" Target="../media/driveby.wav"/><Relationship Id="rId34" Type="http://schemas.openxmlformats.org/officeDocument/2006/relationships/audio" Target="../media/EXPLODE.WAV"/><Relationship Id="rId35" Type="http://schemas.openxmlformats.org/officeDocument/2006/relationships/audio" Target="../media/EXPLODE.WAV"/><Relationship Id="rId36" Type="http://schemas.openxmlformats.org/officeDocument/2006/relationships/audio" Target="../media/EXPLODE.WAV"/><Relationship Id="rId3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2.wmf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EXPLODE.WAV"/><Relationship Id="rId29" Type="http://schemas.openxmlformats.org/officeDocument/2006/relationships/audio" Target="../media/projctor.wav"/><Relationship Id="rId30" Type="http://schemas.openxmlformats.org/officeDocument/2006/relationships/audio" Target="../media/glass.wav"/><Relationship Id="rId31" Type="http://schemas.openxmlformats.org/officeDocument/2006/relationships/audio" Target="../media/EXPLODE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EXPLODE.WAV"/><Relationship Id="rId36" Type="http://schemas.openxmlformats.org/officeDocument/2006/relationships/audio" Target="../media/EXPLODE.WAV"/><Relationship Id="rId37" Type="http://schemas.openxmlformats.org/officeDocument/2006/relationships/audio" Target="../media/LASER.WAV"/><Relationship Id="rId38" Type="http://schemas.openxmlformats.org/officeDocument/2006/relationships/audio" Target="../media/LASER.WAV"/><Relationship Id="rId39" Type="http://schemas.openxmlformats.org/officeDocument/2006/relationships/audio" Target="../media/driveby.wav"/><Relationship Id="rId40" Type="http://schemas.openxmlformats.org/officeDocument/2006/relationships/audio" Target="../media/EXPLODE.WAV"/><Relationship Id="rId41" Type="http://schemas.openxmlformats.org/officeDocument/2006/relationships/audio" Target="../media/EXPLODE.WAV"/><Relationship Id="rId42" Type="http://schemas.openxmlformats.org/officeDocument/2006/relationships/audio" Target="../media/EXPLODE.WAV"/><Relationship Id="rId4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audio" Target="../media/EXPLODE.WAV"/><Relationship Id="rId20" Type="http://schemas.openxmlformats.org/officeDocument/2006/relationships/audio" Target="../media/projctor.wav"/><Relationship Id="rId21" Type="http://schemas.openxmlformats.org/officeDocument/2006/relationships/audio" Target="../media/glass.wav"/><Relationship Id="rId22" Type="http://schemas.openxmlformats.org/officeDocument/2006/relationships/audio" Target="../media/EXPLODE.WAV"/><Relationship Id="rId23" Type="http://schemas.openxmlformats.org/officeDocument/2006/relationships/audio" Target="../media/EXPLODE.WAV"/><Relationship Id="rId24" Type="http://schemas.openxmlformats.org/officeDocument/2006/relationships/audio" Target="../media/EXPLODE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EXPLODE.WAV"/><Relationship Id="rId28" Type="http://schemas.openxmlformats.org/officeDocument/2006/relationships/audio" Target="../media/EXPLODE.WAV"/><Relationship Id="rId29" Type="http://schemas.openxmlformats.org/officeDocument/2006/relationships/audio" Target="../media/EXPLODE.WAV"/><Relationship Id="rId3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.wmf"/><Relationship Id="rId29" Type="http://schemas.openxmlformats.org/officeDocument/2006/relationships/audio" Target="../media/EXPLODE.WAV"/><Relationship Id="rId30" Type="http://schemas.openxmlformats.org/officeDocument/2006/relationships/audio" Target="../media/projctor.wav"/><Relationship Id="rId31" Type="http://schemas.openxmlformats.org/officeDocument/2006/relationships/audio" Target="../media/glass.wav"/><Relationship Id="rId32" Type="http://schemas.openxmlformats.org/officeDocument/2006/relationships/audio" Target="../media/EXPLODE.WAV"/><Relationship Id="rId33" Type="http://schemas.openxmlformats.org/officeDocument/2006/relationships/audio" Target="../media/EXPLODE.WAV"/><Relationship Id="rId34" Type="http://schemas.openxmlformats.org/officeDocument/2006/relationships/audio" Target="../media/EXPLODE.WAV"/><Relationship Id="rId35" Type="http://schemas.openxmlformats.org/officeDocument/2006/relationships/audio" Target="../media/LASER.WAV"/><Relationship Id="rId36" Type="http://schemas.openxmlformats.org/officeDocument/2006/relationships/audio" Target="../media/LASER.WAV"/><Relationship Id="rId37" Type="http://schemas.openxmlformats.org/officeDocument/2006/relationships/audio" Target="../media/EXPLODE.WAV"/><Relationship Id="rId38" Type="http://schemas.openxmlformats.org/officeDocument/2006/relationships/audio" Target="../media/EXPLODE.WAV"/><Relationship Id="rId39" Type="http://schemas.openxmlformats.org/officeDocument/2006/relationships/audio" Target="../media/EXPLODE.WAV"/><Relationship Id="rId40" Type="http://schemas.openxmlformats.org/officeDocument/2006/relationships/audio" Target="../media/LASER.WAV"/><Relationship Id="rId41" Type="http://schemas.openxmlformats.org/officeDocument/2006/relationships/audio" Target="../media/LASER.WAV"/><Relationship Id="rId42" Type="http://schemas.openxmlformats.org/officeDocument/2006/relationships/audio" Target="../media/driveby.wav"/><Relationship Id="rId43" Type="http://schemas.openxmlformats.org/officeDocument/2006/relationships/audio" Target="../media/EXPLODE.WAV"/><Relationship Id="rId44" Type="http://schemas.openxmlformats.org/officeDocument/2006/relationships/audio" Target="../media/EXPLODE.WAV"/><Relationship Id="rId45" Type="http://schemas.openxmlformats.org/officeDocument/2006/relationships/audio" Target="../media/EXPLODE.WAV"/><Relationship Id="rId4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image" Target="../media/image44.gif"/><Relationship Id="rId10" Type="http://schemas.openxmlformats.org/officeDocument/2006/relationships/image" Target="../media/image45.gif"/><Relationship Id="rId11" Type="http://schemas.openxmlformats.org/officeDocument/2006/relationships/audio" Target="../media/cashreg.wav"/><Relationship Id="rId12" Type="http://schemas.openxmlformats.org/officeDocument/2006/relationships/audio" Target="../media/CAMERA.WAV"/><Relationship Id="rId13" Type="http://schemas.openxmlformats.org/officeDocument/2006/relationships/audio" Target="../media/driveby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EXPLODE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that passes through the point and has the given slope. Write the equation in slope-intercept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228600" y="2133720"/>
                <a:ext cx="46069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85800" y="3021120"/>
                <a:ext cx="51055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5" name=""/>
          <p:cNvGraphicFramePr/>
          <p:nvPr/>
        </p:nvGraphicFramePr>
        <p:xfrm>
          <a:off x="1592280" y="3110040"/>
          <a:ext cx="8208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2280" y="3110040"/>
                    <a:ext cx="820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124080" y="3124080"/>
          <a:ext cx="87336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124080"/>
                    <a:ext cx="8733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105520" y="3124080"/>
          <a:ext cx="41112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124080"/>
                    <a:ext cx="411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089000" y="3809880"/>
          <a:ext cx="19033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9000" y="3809880"/>
                    <a:ext cx="19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895480" y="3809880"/>
          <a:ext cx="118440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3809880"/>
                    <a:ext cx="1184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962520" y="4267080"/>
          <a:ext cx="83016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62520" y="4267080"/>
                    <a:ext cx="8301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600200" y="4267080"/>
          <a:ext cx="8301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0200" y="426708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114560" y="4876920"/>
            <a:ext cx="36860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876320" y="5029200"/>
          <a:ext cx="514440" cy="762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76320" y="5029200"/>
                    <a:ext cx="514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408400" y="4876920"/>
          <a:ext cx="16984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08400" y="4876920"/>
                    <a:ext cx="1698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962520" y="4876920"/>
          <a:ext cx="873000" cy="609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62520" y="4876920"/>
                    <a:ext cx="873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143000" y="3124080"/>
          <a:ext cx="660240" cy="609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43000" y="312408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523880" y="3124080"/>
          <a:ext cx="660600" cy="609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523880" y="3124080"/>
                    <a:ext cx="6606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962520" y="3809880"/>
          <a:ext cx="876240" cy="609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962520" y="3809880"/>
                    <a:ext cx="876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762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that passes through the point and has the given slope. Write the equation in slope-intercept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55680" y="2127240"/>
                <a:ext cx="4995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27000" y="2973240"/>
                <a:ext cx="496404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76" name=""/>
          <p:cNvGraphicFramePr/>
          <p:nvPr/>
        </p:nvGraphicFramePr>
        <p:xfrm>
          <a:off x="1803240" y="3110040"/>
          <a:ext cx="8715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3240" y="3110040"/>
                    <a:ext cx="8715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303720" y="3124080"/>
          <a:ext cx="5126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3720" y="3124080"/>
                    <a:ext cx="5126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000760" y="3110040"/>
          <a:ext cx="8222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760" y="3110040"/>
                    <a:ext cx="82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089000" y="3809880"/>
          <a:ext cx="190332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9000" y="3809880"/>
                    <a:ext cx="1903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075120" y="3809880"/>
          <a:ext cx="82368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75120" y="3809880"/>
                    <a:ext cx="8236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936960" y="4267080"/>
          <a:ext cx="88272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36960" y="4267080"/>
                    <a:ext cx="8827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574640" y="4267080"/>
          <a:ext cx="88272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74640" y="4267080"/>
                    <a:ext cx="882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114560" y="4876920"/>
            <a:ext cx="36860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876320" y="5029200"/>
          <a:ext cx="514440" cy="762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76320" y="5029200"/>
                    <a:ext cx="514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587680" y="4876920"/>
          <a:ext cx="133812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87680" y="4876920"/>
                    <a:ext cx="1338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833640" y="4876920"/>
          <a:ext cx="1130400" cy="609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33640" y="4876920"/>
                    <a:ext cx="1130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420920" y="3097080"/>
          <a:ext cx="660240" cy="609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20920" y="309708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774800" y="3124080"/>
          <a:ext cx="660600" cy="609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774800" y="3124080"/>
                    <a:ext cx="6606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808440" y="3809880"/>
          <a:ext cx="1185840" cy="609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808440" y="3809880"/>
                    <a:ext cx="1185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586400" y="3110040"/>
          <a:ext cx="660240" cy="609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586400" y="3110040"/>
                    <a:ext cx="66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979880" y="3138480"/>
          <a:ext cx="660600" cy="6094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979880" y="3138480"/>
                    <a:ext cx="660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762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that passes through the point and has the given slope. Write the equation in slope-intercept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7680" y="2133720"/>
                <a:ext cx="42307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5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955800" y="3002040"/>
                <a:ext cx="49370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11" name=""/>
          <p:cNvGraphicFramePr/>
          <p:nvPr/>
        </p:nvGraphicFramePr>
        <p:xfrm>
          <a:off x="2057400" y="3124080"/>
          <a:ext cx="4618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124080"/>
                    <a:ext cx="4618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176640" y="3124080"/>
          <a:ext cx="7682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6640" y="3124080"/>
                    <a:ext cx="768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105520" y="3124080"/>
          <a:ext cx="51408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124080"/>
                    <a:ext cx="514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114560" y="3809880"/>
          <a:ext cx="1852560" cy="76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4560" y="3809880"/>
                    <a:ext cx="18525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971800" y="3886200"/>
          <a:ext cx="87624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3886200"/>
                    <a:ext cx="8762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733920" y="4267080"/>
          <a:ext cx="83016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4267080"/>
                    <a:ext cx="8301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600200" y="4267080"/>
          <a:ext cx="83016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0200" y="426708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114560" y="4876920"/>
            <a:ext cx="36860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876320" y="5029200"/>
          <a:ext cx="514440" cy="762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76320" y="5029200"/>
                    <a:ext cx="514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362320" y="5029200"/>
          <a:ext cx="138888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62320" y="5029200"/>
                    <a:ext cx="1388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733920" y="4952880"/>
          <a:ext cx="87300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733920" y="4952880"/>
                    <a:ext cx="8730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733920" y="3809880"/>
          <a:ext cx="876240" cy="609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33920" y="3809880"/>
                    <a:ext cx="876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135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Parallel Li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that is parallel to the given line and passes through the give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1440" y="3174840"/>
                <a:ext cx="528948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5943600" y="3276720"/>
          <a:ext cx="167652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276720"/>
                    <a:ext cx="167652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58880" y="4157640"/>
                <a:ext cx="48117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3" name=""/>
          <p:cNvGraphicFramePr/>
          <p:nvPr/>
        </p:nvGraphicFramePr>
        <p:xfrm>
          <a:off x="1752480" y="4267080"/>
          <a:ext cx="4622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267080"/>
                    <a:ext cx="462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124080" y="4267080"/>
          <a:ext cx="51444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4267080"/>
                    <a:ext cx="514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876920" y="4267080"/>
          <a:ext cx="51408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4267080"/>
                    <a:ext cx="514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914400" y="4876920"/>
          <a:ext cx="18525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876920"/>
                    <a:ext cx="1852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666880" y="4876920"/>
          <a:ext cx="82404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66880" y="4876920"/>
                    <a:ext cx="824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429000" y="5334120"/>
          <a:ext cx="830160" cy="61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29000" y="5334120"/>
                    <a:ext cx="8301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447920" y="5334120"/>
          <a:ext cx="83016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47920" y="5334120"/>
                    <a:ext cx="8301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838080" y="5943600"/>
            <a:ext cx="36576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600200" y="6095880"/>
          <a:ext cx="51444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00200" y="6095880"/>
                    <a:ext cx="514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5943600"/>
          <a:ext cx="1338480" cy="609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09680" y="5943600"/>
                    <a:ext cx="1338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429000" y="5943600"/>
          <a:ext cx="822240" cy="609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29000" y="5943600"/>
                    <a:ext cx="82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533520" y="1600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y two nonvertical lines that have the same 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429000" y="4876920"/>
          <a:ext cx="824040" cy="609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4876920"/>
                    <a:ext cx="824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168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Parallel Li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that is parallel to the given line and passes through the give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5040" y="3216240"/>
                <a:ext cx="52624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73" name=""/>
          <p:cNvGraphicFramePr/>
          <p:nvPr/>
        </p:nvGraphicFramePr>
        <p:xfrm>
          <a:off x="5999040" y="3276720"/>
          <a:ext cx="156528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99040" y="3276720"/>
                    <a:ext cx="15652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826920" y="4173480"/>
                <a:ext cx="47707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76" name=""/>
          <p:cNvGraphicFramePr/>
          <p:nvPr/>
        </p:nvGraphicFramePr>
        <p:xfrm>
          <a:off x="1752480" y="4267080"/>
          <a:ext cx="4622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267080"/>
                    <a:ext cx="462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174840" y="4267080"/>
          <a:ext cx="41292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74840" y="4267080"/>
                    <a:ext cx="4129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722840" y="4267080"/>
          <a:ext cx="82404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2840" y="4267080"/>
                    <a:ext cx="824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752480" y="5181480"/>
          <a:ext cx="1028880" cy="66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5181480"/>
                    <a:ext cx="10288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820960" y="5156280"/>
          <a:ext cx="514440" cy="50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20960" y="5156280"/>
                    <a:ext cx="514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533520" y="1600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y two nonvertical lines that have the same 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276720" y="5029200"/>
          <a:ext cx="82368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5029200"/>
                    <a:ext cx="823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343400" y="4267080"/>
          <a:ext cx="660240" cy="609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43400" y="426708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710240" y="4294080"/>
          <a:ext cx="660240" cy="609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0240" y="429408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194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Parallel Li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Write an equation of the line that is parallel to the given line and passes through the give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7040" y="3211560"/>
                <a:ext cx="56214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99" name=""/>
          <p:cNvGraphicFramePr/>
          <p:nvPr/>
        </p:nvGraphicFramePr>
        <p:xfrm>
          <a:off x="5748480" y="3276720"/>
          <a:ext cx="206676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8480" y="3276720"/>
                    <a:ext cx="2066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855720" y="4172040"/>
                <a:ext cx="47163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02" name=""/>
          <p:cNvGraphicFramePr/>
          <p:nvPr/>
        </p:nvGraphicFramePr>
        <p:xfrm>
          <a:off x="1736640" y="4267080"/>
          <a:ext cx="77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6640" y="4267080"/>
                    <a:ext cx="77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944800" y="4267080"/>
          <a:ext cx="87300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44800" y="4267080"/>
                    <a:ext cx="8730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900680" y="4253040"/>
          <a:ext cx="41112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00680" y="4253040"/>
                    <a:ext cx="411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939960" y="4876920"/>
          <a:ext cx="180180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39960" y="4876920"/>
                    <a:ext cx="18018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666880" y="4876920"/>
          <a:ext cx="118440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66880" y="4876920"/>
                    <a:ext cx="1184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733920" y="5334120"/>
          <a:ext cx="777600" cy="61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33920" y="5334120"/>
                    <a:ext cx="7776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447920" y="5334120"/>
          <a:ext cx="777600" cy="612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47920" y="5334120"/>
                    <a:ext cx="7776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838080" y="5943600"/>
            <a:ext cx="36576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600200" y="6095880"/>
          <a:ext cx="51444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00200" y="6095880"/>
                    <a:ext cx="514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2209680" y="5943600"/>
          <a:ext cx="1698840" cy="609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09680" y="5943600"/>
                    <a:ext cx="1698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733920" y="5943600"/>
          <a:ext cx="771480" cy="609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33920" y="5943600"/>
                    <a:ext cx="771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533520" y="1600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ny two nonvertical lines that have the same 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733920" y="4876920"/>
          <a:ext cx="874440" cy="6094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33920" y="4876920"/>
                    <a:ext cx="874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258920" y="4267080"/>
          <a:ext cx="660240" cy="609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258920" y="426708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684440" y="4294080"/>
          <a:ext cx="660240" cy="609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684440" y="429408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32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ing and Using a Linear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7. Use the linear equation from Example 3 to estimate the total cost </a:t>
            </a:r>
            <a:r>
              <a:rPr b="1" i="1" lang="en-US" sz="2800" spc="-1" strike="noStrike">
                <a:solidFill>
                  <a:srgbClr val="006699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 of parking for 7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752480" y="1905120"/>
          <a:ext cx="325116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05120"/>
                    <a:ext cx="32511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650960" y="2562120"/>
                <a:ext cx="4122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8" name=""/>
          <p:cNvGraphicFramePr/>
          <p:nvPr/>
        </p:nvGraphicFramePr>
        <p:xfrm>
          <a:off x="1676520" y="4267080"/>
          <a:ext cx="2655720" cy="82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267080"/>
                    <a:ext cx="265572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685800" y="55627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It would $12.75 to park for 7 ho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038480" y="2590920"/>
          <a:ext cx="552600" cy="66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2590920"/>
                    <a:ext cx="5526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1676520" y="3429000"/>
          <a:ext cx="3211560" cy="82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429000"/>
                    <a:ext cx="3211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5851440" y="1503360"/>
            <a:ext cx="866880" cy="1486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0"/>
          <a:stretch/>
        </p:blipFill>
        <p:spPr>
          <a:xfrm>
            <a:off x="5854680" y="2279520"/>
            <a:ext cx="309564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4-10-19T13:36:45Z</dcterms:modified>
  <cp:revision>156</cp:revision>
  <dc:subject/>
  <dc:title>No Slide Title</dc:title>
</cp:coreProperties>
</file>